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C4A-84DE-4114-8176-DFCFF20D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D0F-2B35-4561-BF06-BB4C2F5D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5F9-EDC1-4FA4-95B2-76A1783B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488-7D9D-4892-BE41-7480BB6A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903-ECBA-44D2-84AC-651B1F3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DDF-27EB-47DD-87D0-3FE39DC4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C8F-9E19-49AB-807F-03E4881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73F-2615-4159-868F-176BBDD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846-505B-42A1-BF0B-C95FCC25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488-A73B-4472-808A-E2A9C42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0DB-F4DD-429B-99D2-BF5BF6DB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11F-F86E-4D72-9ACA-0254271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FBC-A49F-4B96-8094-F2197E44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2057400"/>
            <a:ext cx="8305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>
                    <a:alpha val="50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 to Pharmacology</a:t>
            </a:r>
            <a:endParaRPr b="0" lang="en-US" sz="2400" spc="1" strike="noStrike">
              <a:ln w="0">
                <a:noFill/>
              </a:ln>
              <a:solidFill>
                <a:srgbClr val="333333">
                  <a:alpha val="50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stol Plymou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Nurse Progra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net L. Terra, R.N.,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s for use and warnings against unsafe use, including recommendations for dosage levels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819520"/>
            <a:ext cx="3657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Recommended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Not to exceed 8 tablets in 24 hours, or as directed by a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ement on all new drugs not yet approved for interstate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297180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Caution: New Drug – Limited by Federal Law to Investig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Other Important Acts and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025720"/>
            <a:ext cx="8610480" cy="37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52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rham – Humphrey Amend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escription vs OT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6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Kefauver – Harris Amend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uth in Adverti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Laws Specific to Narc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025720"/>
            <a:ext cx="861048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Harrison Narcotic A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irst Narcotic Control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mprehensive Drug Abu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ention and Control A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trolled Substances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70 Controlled Substances A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2324160"/>
            <a:ext cx="3886200" cy="4076640"/>
            <a:chOff x="304920" y="2324160"/>
            <a:chExt cx="3886200" cy="4076640"/>
          </a:xfrm>
        </p:grpSpPr>
        <p:sp>
          <p:nvSpPr>
            <p:cNvPr id="89" name="Lock"/>
            <p:cNvSpPr/>
            <p:nvPr/>
          </p:nvSpPr>
          <p:spPr>
            <a:xfrm>
              <a:off x="304920" y="2324160"/>
              <a:ext cx="1912680" cy="240048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ock"/>
            <p:cNvSpPr/>
            <p:nvPr/>
          </p:nvSpPr>
          <p:spPr>
            <a:xfrm>
              <a:off x="2278080" y="4000680"/>
              <a:ext cx="1913040" cy="2400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ft Narcotic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70 Controlled Substances A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1971360"/>
            <a:ext cx="3741120" cy="4658040"/>
            <a:chOff x="533520" y="1971360"/>
            <a:chExt cx="3741120" cy="4658040"/>
          </a:xfrm>
        </p:grpSpPr>
        <p:grpSp>
          <p:nvGrpSpPr>
            <p:cNvPr id="94" name=""/>
            <p:cNvGrpSpPr/>
            <p:nvPr/>
          </p:nvGrpSpPr>
          <p:grpSpPr>
            <a:xfrm>
              <a:off x="960840" y="1971360"/>
              <a:ext cx="1583280" cy="1315440"/>
              <a:chOff x="960840" y="1971360"/>
              <a:chExt cx="1583280" cy="131544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960840" y="1971360"/>
                <a:ext cx="1583280" cy="1315440"/>
                <a:chOff x="960840" y="1971360"/>
                <a:chExt cx="1583280" cy="1315440"/>
              </a:xfrm>
            </p:grpSpPr>
            <p:sp>
              <p:nvSpPr>
                <p:cNvPr id="96" name=""/>
                <p:cNvSpPr/>
                <p:nvPr/>
              </p:nvSpPr>
              <p:spPr>
                <a:xfrm rot="20688000">
                  <a:off x="1066320" y="2133720"/>
                  <a:ext cx="1371600" cy="990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1074240" y="2138040"/>
                  <a:ext cx="1176480" cy="31968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 rot="20921400">
                <a:off x="1752480" y="251424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49440" y="3101760"/>
              <a:ext cx="1596960" cy="1339920"/>
              <a:chOff x="649440" y="3101760"/>
              <a:chExt cx="1596960" cy="13399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49440" y="3101760"/>
                <a:ext cx="1596960" cy="1339920"/>
                <a:chOff x="649440" y="3101760"/>
                <a:chExt cx="1596960" cy="1339920"/>
              </a:xfrm>
            </p:grpSpPr>
            <p:sp>
              <p:nvSpPr>
                <p:cNvPr id="101" name=""/>
                <p:cNvSpPr/>
                <p:nvPr/>
              </p:nvSpPr>
              <p:spPr>
                <a:xfrm rot="993000">
                  <a:off x="762120" y="3276360"/>
                  <a:ext cx="1371600" cy="990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60840" y="3269520"/>
                  <a:ext cx="1168920" cy="34740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 rot="1401000">
                <a:off x="1294560" y="365724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212840" y="4127040"/>
              <a:ext cx="1689480" cy="1575360"/>
              <a:chOff x="1212840" y="4127040"/>
              <a:chExt cx="1689480" cy="15753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212840" y="4127040"/>
                <a:ext cx="1689480" cy="1575360"/>
                <a:chOff x="1212840" y="4127040"/>
                <a:chExt cx="1689480" cy="1575360"/>
              </a:xfrm>
            </p:grpSpPr>
            <p:sp>
              <p:nvSpPr>
                <p:cNvPr id="106" name=""/>
                <p:cNvSpPr/>
                <p:nvPr/>
              </p:nvSpPr>
              <p:spPr>
                <a:xfrm rot="19632600">
                  <a:off x="1371600" y="4419360"/>
                  <a:ext cx="1371600" cy="990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359000" y="4296600"/>
                  <a:ext cx="1024920" cy="66024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 rot="19725600">
                <a:off x="1981440" y="479988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33520" y="5638680"/>
              <a:ext cx="1371600" cy="990720"/>
              <a:chOff x="533520" y="5638680"/>
              <a:chExt cx="1371600" cy="9907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533520" y="5638680"/>
                <a:ext cx="1371600" cy="990720"/>
                <a:chOff x="533520" y="5638680"/>
                <a:chExt cx="1371600" cy="990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33520" y="5638680"/>
                  <a:ext cx="137160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09480" y="5791320"/>
                  <a:ext cx="1219320" cy="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1066680" y="601992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583720" y="4713480"/>
              <a:ext cx="1690920" cy="1622520"/>
              <a:chOff x="2583720" y="4713480"/>
              <a:chExt cx="1690920" cy="16225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583720" y="4713480"/>
                <a:ext cx="1690920" cy="1622520"/>
                <a:chOff x="2583720" y="4713480"/>
                <a:chExt cx="1690920" cy="1622520"/>
              </a:xfrm>
            </p:grpSpPr>
            <p:sp>
              <p:nvSpPr>
                <p:cNvPr id="116" name=""/>
                <p:cNvSpPr/>
                <p:nvPr/>
              </p:nvSpPr>
              <p:spPr>
                <a:xfrm rot="8538000">
                  <a:off x="2743200" y="5029200"/>
                  <a:ext cx="137160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3156480" y="5422680"/>
                  <a:ext cx="964800" cy="74592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 flipV="1" rot="8313000">
                <a:off x="3204360" y="5204160"/>
                <a:ext cx="30456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16040" y="2786040"/>
              <a:ext cx="1673640" cy="1666800"/>
              <a:chOff x="2516040" y="2786040"/>
              <a:chExt cx="1673640" cy="16668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2516040" y="2786040"/>
                <a:ext cx="1673640" cy="1666800"/>
                <a:chOff x="2516040" y="2786040"/>
                <a:chExt cx="1673640" cy="1666800"/>
              </a:xfrm>
            </p:grpSpPr>
            <p:sp>
              <p:nvSpPr>
                <p:cNvPr id="121" name=""/>
                <p:cNvSpPr/>
                <p:nvPr/>
              </p:nvSpPr>
              <p:spPr>
                <a:xfrm rot="8144400">
                  <a:off x="2666880" y="3124080"/>
                  <a:ext cx="137160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3155400" y="3439440"/>
                  <a:ext cx="873360" cy="85068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rot="19267200">
                <a:off x="3113280" y="330768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mits on Pr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70 Controlled Substances A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1295280"/>
            <a:ext cx="3809880" cy="5410440"/>
            <a:chOff x="76320" y="1295280"/>
            <a:chExt cx="3809880" cy="5410440"/>
          </a:xfrm>
        </p:grpSpPr>
        <p:sp>
          <p:nvSpPr>
            <p:cNvPr id="127" name=""/>
            <p:cNvSpPr/>
            <p:nvPr/>
          </p:nvSpPr>
          <p:spPr>
            <a:xfrm>
              <a:off x="76320" y="1295280"/>
              <a:ext cx="3809880" cy="54104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080" y="2270160"/>
              <a:ext cx="2683080" cy="39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6/23/02  Meperidine 50 mg po q4h prn back p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Les Lurnett, M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6/26/02  Renew Meperidine 50 mg po q4h prn back p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Les Lurnett, M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rug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an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8335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alleviat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733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n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7479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prevent ul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0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0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lowering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943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l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9580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i - depres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2952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rugs may have similar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’t be conf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rug Nomencla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320" y="1969920"/>
            <a:ext cx="3352680" cy="4735440"/>
            <a:chOff x="76320" y="1969920"/>
            <a:chExt cx="3352680" cy="4735440"/>
          </a:xfrm>
        </p:grpSpPr>
        <p:grpSp>
          <p:nvGrpSpPr>
            <p:cNvPr id="141" name=""/>
            <p:cNvGrpSpPr/>
            <p:nvPr/>
          </p:nvGrpSpPr>
          <p:grpSpPr>
            <a:xfrm>
              <a:off x="1562400" y="5447880"/>
              <a:ext cx="1193760" cy="1257480"/>
              <a:chOff x="1562400" y="5447880"/>
              <a:chExt cx="1193760" cy="1257480"/>
            </a:xfrm>
          </p:grpSpPr>
          <p:sp>
            <p:nvSpPr>
              <p:cNvPr id="142" name=""/>
              <p:cNvSpPr/>
              <p:nvPr/>
            </p:nvSpPr>
            <p:spPr>
              <a:xfrm rot="16200000">
                <a:off x="1530360" y="5479560"/>
                <a:ext cx="1257480" cy="1193760"/>
              </a:xfrm>
              <a:prstGeom prst="hexagon">
                <a:avLst>
                  <a:gd name="adj" fmla="val 26334"/>
                  <a:gd name="vf" fmla="val 11547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61840" y="5793840"/>
                <a:ext cx="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683000" y="5547240"/>
                <a:ext cx="511920" cy="24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1621080" y="6361560"/>
                <a:ext cx="50940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133720" y="1969920"/>
              <a:ext cx="1219320" cy="1158840"/>
              <a:chOff x="2133720" y="1969920"/>
              <a:chExt cx="1219320" cy="1158840"/>
            </a:xfrm>
          </p:grpSpPr>
          <p:sp>
            <p:nvSpPr>
              <p:cNvPr id="147" name=""/>
              <p:cNvSpPr/>
              <p:nvPr/>
            </p:nvSpPr>
            <p:spPr>
              <a:xfrm>
                <a:off x="2133720" y="1969920"/>
                <a:ext cx="1219320" cy="1158840"/>
              </a:xfrm>
              <a:prstGeom prst="pentagon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252520" y="2105280"/>
                <a:ext cx="433080" cy="33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084120" y="2532600"/>
                <a:ext cx="170640" cy="52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87680" y="3341160"/>
              <a:ext cx="1193760" cy="1257480"/>
              <a:chOff x="787680" y="3341160"/>
              <a:chExt cx="1193760" cy="1257480"/>
            </a:xfrm>
          </p:grpSpPr>
          <p:sp>
            <p:nvSpPr>
              <p:cNvPr id="151" name=""/>
              <p:cNvSpPr/>
              <p:nvPr/>
            </p:nvSpPr>
            <p:spPr>
              <a:xfrm rot="16200000">
                <a:off x="755640" y="3372840"/>
                <a:ext cx="1257480" cy="1193760"/>
              </a:xfrm>
              <a:prstGeom prst="hexagon">
                <a:avLst>
                  <a:gd name="adj" fmla="val 26334"/>
                  <a:gd name="vf" fmla="val 11547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87120" y="3687120"/>
                <a:ext cx="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908280" y="3440520"/>
                <a:ext cx="511920" cy="24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846360" y="4254840"/>
                <a:ext cx="50940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95640" y="21985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20" y="4408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33520" y="433188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5120" y="2427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3200" y="4255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4240" y="2732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1600" y="3112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152800" y="518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1" idx="1"/>
              <a:endCxn id="162" idx="0"/>
            </p:cNvCxnSpPr>
            <p:nvPr/>
          </p:nvCxnSpPr>
          <p:spPr>
            <a:xfrm>
              <a:off x="1382400" y="4626000"/>
              <a:ext cx="770760" cy="53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64" name=""/>
            <p:cNvSpPr/>
            <p:nvPr/>
          </p:nvSpPr>
          <p:spPr>
            <a:xfrm flipV="1">
              <a:off x="2133720" y="463680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44520" y="4622760"/>
              <a:ext cx="51192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71800" y="372240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971800" y="311292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59640" y="1981080"/>
            <a:ext cx="5055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Chloro-1-methyl-6-phenyl-4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triazolo [4,3-a] [1,4] benzodiaze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2080" y="3581280"/>
            <a:ext cx="29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ficial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razolam,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38720" y="49370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(Brand)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anax 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154560" cy="647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48200" y="152280"/>
            <a:ext cx="3102120" cy="403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1" y="22449"/>
                </a:moveTo>
                <a:lnTo>
                  <a:pt x="-531" y="611"/>
                </a:lnTo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ends, the ingredients in this bottle will cure all that ails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ru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2860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96960"/>
            <a:ext cx="86104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ur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afety and Toxic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06 - Federal Food, Drug and Cosmetic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25720"/>
            <a:ext cx="861048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 Legal Standards for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ted States Pharmacopoe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SP [NF]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ement accurately describing the package’s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3526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Each tablet contains acetominopen 325 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ual names of the drug(s), both official and non – of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35268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Tylenol 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acetominophen, 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ion of the presence, quantity, and proportion of othe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35268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Active 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Inactive 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ning of habit – forming drugs in the product and their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352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W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s of the manufacturer, packager and distrib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895480"/>
            <a:ext cx="3657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istribu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McNeil Consumer Health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Fort Washington, 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23:16:51Z</dcterms:created>
  <dc:creator>Janet Terra</dc:creator>
  <dc:description/>
  <dc:language>en-US</dc:language>
  <cp:lastModifiedBy>User</cp:lastModifiedBy>
  <dcterms:modified xsi:type="dcterms:W3CDTF">2007-09-05T17:58:41Z</dcterms:modified>
  <cp:revision>19</cp:revision>
  <dc:subject/>
  <dc:title>Federal Food, Drug and Cosmetic Act – 1938</dc:title>
</cp:coreProperties>
</file>